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80E-3B59-44B4-BE42-988BAAE4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19C0-9C60-48CB-9EA0-47065BAE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EC52-7719-451F-998C-F7EAA287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1BA5-9E65-4A96-BB44-DA1D08B1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A123-D577-439A-9256-F81C4D1A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318B-5909-4A90-8E02-EA5EACF8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1571-44D5-46A9-B71B-157DBF46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0C0-D038-4DF8-9724-CA5EF5C9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FBED-2C24-463C-9EBD-FBC888BA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57B1-625F-4B85-8BFE-663D24D2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F8E9-CD1B-42FA-AB51-0AC12A7E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E104-8AA3-40C0-8329-06883BD7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1785-0CB7-4B8D-B9D0-E02C431F2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2.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two-step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2385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55308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1520" y="1981080"/>
            <a:ext cx="43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 Solving Two-Step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685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:   10 =  m     +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1295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 2             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1600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Subtraction Property of 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057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243828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 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3505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2  = 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25909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Multiplication Property of 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304920"/>
            <a:ext cx="6019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:   - b + 6 = -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1371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 6         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12193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Subtraction Property of 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1905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22096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     =     -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1              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ivision Property of 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 =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3395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9320" y="30481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30621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X = 2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3048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X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763120" cy="1420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38080" y="259092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90b + 2.50 = 18.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31240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 2.50    - 2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5812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3886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90b   =   16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30481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Subtraction Prop. Of E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267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426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4267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.90           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42814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ivision Prop. Of E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02920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 = 17.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17 bul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867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omewor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70800" y="417600"/>
            <a:ext cx="42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: Using Deductive Reas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5400" y="1560600"/>
            <a:ext cx="49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4: solve 1 = k  +  5   Justify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1905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91240" y="417600"/>
            <a:ext cx="50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5: solve 8 – 3y = 14   Justify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9:34:27Z</dcterms:created>
  <dc:creator>Susannah Graham</dc:creator>
  <dc:description/>
  <dc:language>en-US</dc:language>
  <cp:lastModifiedBy>BRSD</cp:lastModifiedBy>
  <dcterms:modified xsi:type="dcterms:W3CDTF">2009-11-02T12:46:43Z</dcterms:modified>
  <cp:revision>10</cp:revision>
  <dc:subject/>
  <dc:title>Problem of the day!!!</dc:title>
</cp:coreProperties>
</file>